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B074-9E0F-4BD8-ACFD-35C49CAF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5E9A-1FED-4576-8481-4FE16B40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eamstime.com/royalty-free-stock-images-dna-helix-isolated-image4928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4932-DB33-489F-B6A1-B89FC055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7C1B-21A0-499C-B27E-4BAD2A18B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1EB9-0305-4346-94A0-2F70A4BA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ol is this animation?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okyo-med.ac.jp/genet/mfi-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ki.se/groups/ljo/research/rese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1E2F-8D95-4DDE-819B-2DA2617E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BB3C-4AA0-467C-83E0-EDB15F7D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D280-F9E6-4A3A-8B41-C713329F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owensboro.kctcs.edu/gcaplan/anat2/notes/APIINotes2%20meio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2ACD-64BB-4350-8292-7E14EA54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8DC1-F2BD-451B-8F3B-DC83C016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smokefurr.proboards.com/index.cgi?board=general&amp;action=display&amp;threa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0EEE-E373-44C1-B66D-D3CC42AC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le or female?  autosome vs. sex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l.ac.uk/~ucbhjow/medicine/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63D-2327-4443-AC48-0CEC9E71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stroh.wordpress.com/2011/02/28/karyotyp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8BB6-7123-4D6A-8B28-45890DA8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0D74-BBEC-4EFA-93F9-8F82AB990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chem.co/2010/01/dna-mutations-and-genetic-disea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DF9-A338-47C7-827B-978A9CFD4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ioslibres.info/coevolution-and-symbi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xternal fertiliz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symbiosis (clownfish eat harmful small invertebrates &amp; are protected from predators and immune to stinging of anemone;  clownfish fecal matter provides nutrients to anem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35B-CC0D-47A3-9A4C-AFDA76E8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B38A-6CF0-4695-B9E6-98D0AEE84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Human_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F7E6-0AC1-40F8-BFFD-FEFB485C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bio1100.nicerweb.com/Locked/media/ch08/chromos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788-F04B-49A8-9109-3F08D3F97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rationalwiki.org/w/images/thumb/b/b4/Meiosis.gif/250px-Meiosi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: http://vcell.ndsu.nodak.edu/animations/meiosis/movie-flash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AE5A-6599-41E5-9D6D-2B53084F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assets.openstudy.com/updates/attachments/51b0780fe4b05b167ed2bccb-abb0t-1370531715326-crossingover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7BE4-5FC9-41C2-B140-ADC6090B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rsnatzkesbiology.blogspot.ca/2009/11/stages-of-mitosis-and-meiosis_1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56D-8C3A-48C3-881D-2208CAB8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C4E-9227-4ECC-93FD-8D5B34C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F3A-A494-4DB8-AE2D-4B832A6A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053-02BD-4BFC-B4C0-9F5CC949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BEF-E541-44C8-883C-CC33DD2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421-B44F-443B-B17B-4B60B6E2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4A8-F16F-4A51-9A5C-7B88062D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430-3899-43B2-9EA9-357A2900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5F7-869D-43AF-B36E-8D1164FD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E81-8469-47E2-BB9F-81366A0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63E-48A9-4660-B6EA-13B95DA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BE4-2440-4ED5-BD60-E9481CF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5C8D-D83D-4AF3-9C13-79006EE6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cell.ndsu.nodak.edu/animations/meiosis/movie-flash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img26"/>
          <p:cNvPicPr/>
          <p:nvPr/>
        </p:nvPicPr>
        <p:blipFill>
          <a:blip r:embed="rId1"/>
          <a:stretch/>
        </p:blipFill>
        <p:spPr>
          <a:xfrm>
            <a:off x="1414440" y="609480"/>
            <a:ext cx="6313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meiosisii-stage"/>
          <p:cNvPicPr/>
          <p:nvPr/>
        </p:nvPicPr>
        <p:blipFill>
          <a:blip r:embed="rId1"/>
          <a:stretch/>
        </p:blipFill>
        <p:spPr>
          <a:xfrm>
            <a:off x="685800" y="1255680"/>
            <a:ext cx="77724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mimov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3" descr="cover3background.jpeg"/>
          <p:cNvPicPr/>
          <p:nvPr/>
        </p:nvPicPr>
        <p:blipFill>
          <a:blip r:embed="rId1"/>
          <a:srcRect l="0" t="15393" r="0" b="15393"/>
          <a:stretch/>
        </p:blipFill>
        <p:spPr>
          <a:xfrm>
            <a:off x="755640" y="765000"/>
            <a:ext cx="77025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ame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rmatoge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mation sperm cells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oge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mation of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ic division is not equal in o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gametogenesis"/>
          <p:cNvPicPr/>
          <p:nvPr/>
        </p:nvPicPr>
        <p:blipFill>
          <a:blip r:embed="rId1"/>
          <a:stretch/>
        </p:blipFill>
        <p:spPr>
          <a:xfrm>
            <a:off x="2209680" y="6094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ary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ryo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icture of all of the chromosomes in a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to identify some chromosomal abnorm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karyotype2"/>
          <p:cNvPicPr/>
          <p:nvPr/>
        </p:nvPicPr>
        <p:blipFill>
          <a:blip r:embed="rId1"/>
          <a:stretch/>
        </p:blipFill>
        <p:spPr>
          <a:xfrm>
            <a:off x="152280" y="1924200"/>
            <a:ext cx="891540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uman_karyotype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karyotype_normal"/>
          <p:cNvPicPr/>
          <p:nvPr/>
        </p:nvPicPr>
        <p:blipFill>
          <a:blip r:embed="rId1"/>
          <a:stretch/>
        </p:blipFill>
        <p:spPr>
          <a:xfrm>
            <a:off x="884160" y="533520"/>
            <a:ext cx="737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 and fema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me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bin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zation can be external or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i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risomy21female"/>
          <p:cNvPicPr/>
          <p:nvPr/>
        </p:nvPicPr>
        <p:blipFill>
          <a:blip r:embed="rId1"/>
          <a:stretch/>
        </p:blipFill>
        <p:spPr>
          <a:xfrm>
            <a:off x="1092240" y="1981080"/>
            <a:ext cx="695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lownfish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olog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 in shape and size (and genetic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23 homologous pairs of chromosomes in our body cells (22 pair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1 pai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260px-Karyotype"/>
          <p:cNvPicPr/>
          <p:nvPr/>
        </p:nvPicPr>
        <p:blipFill>
          <a:blip r:embed="rId1"/>
          <a:stretch/>
        </p:blipFill>
        <p:spPr>
          <a:xfrm>
            <a:off x="2270160" y="1600200"/>
            <a:ext cx="46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32" descr="08_02"/>
          <p:cNvPicPr/>
          <p:nvPr/>
        </p:nvPicPr>
        <p:blipFill>
          <a:blip r:embed="rId1"/>
          <a:stretch/>
        </p:blipFill>
        <p:spPr>
          <a:xfrm>
            <a:off x="685800" y="1006560"/>
            <a:ext cx="777240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are gametes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and female gametes are formed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250px-Meiosis.gif"/>
          <p:cNvPicPr/>
          <p:nvPr/>
        </p:nvPicPr>
        <p:blipFill>
          <a:blip r:embed="rId2"/>
          <a:srcRect l="-11716" t="0" r="-11716" b="0"/>
          <a:stretch/>
        </p:blipFill>
        <p:spPr>
          <a:xfrm>
            <a:off x="4427640" y="1700280"/>
            <a:ext cx="439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airs come together, form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2" descr="51b0780fe4b05b167ed2bccb-abb0t-1370531715326-crossingover.jpeg"/>
          <p:cNvPicPr/>
          <p:nvPr/>
        </p:nvPicPr>
        <p:blipFill>
          <a:blip r:embed="rId1"/>
          <a:srcRect l="-24443" t="0" r="-24443" b="0"/>
          <a:stretch/>
        </p:blipFill>
        <p:spPr>
          <a:xfrm>
            <a:off x="4211640" y="1700280"/>
            <a:ext cx="4681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eiosis"/>
          <p:cNvPicPr/>
          <p:nvPr/>
        </p:nvPicPr>
        <p:blipFill>
          <a:blip r:embed="rId1"/>
          <a:stretch/>
        </p:blipFill>
        <p:spPr>
          <a:xfrm>
            <a:off x="1674720" y="609480"/>
            <a:ext cx="57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0:48:18Z</dcterms:created>
  <dc:creator>rubina khan</dc:creator>
  <dc:description/>
  <dc:language>en-US</dc:language>
  <cp:lastModifiedBy>rubina khan</cp:lastModifiedBy>
  <dcterms:modified xsi:type="dcterms:W3CDTF">2017-02-09T10:31:10Z</dcterms:modified>
  <cp:revision>66</cp:revision>
  <dc:subject/>
  <dc:title>PowerPoint Presentation</dc:title>
</cp:coreProperties>
</file>